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8B5C-8FAF-4B6B-ADB4-E6EF131D92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E636-8846-4C0A-9B85-8884AA87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14E3-ACAB-4EFA-8455-9130110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4846-5EDF-4080-BB91-CA1AF4462C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95221-E172-419B-BBCD-A6B753B7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4B24-716A-4C2C-8FB0-33AAF02E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15CAF-D66D-453A-88CF-DD087614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8D76-AE73-4BA3-97FA-62481CB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AE1B8-93DC-432E-8383-39717788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B68E-011B-4A17-A3F7-AD9A24EC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8C6EF-F961-40C7-AD04-2E8D6DD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7BE1-31D1-467D-AA4E-B02DDCBA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BD0A8-ACB7-4CBA-A6FD-FB32F18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7F814-501F-450D-A32B-B8E449F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EBC6A-03CE-4D62-B122-8C51CB95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CA1DE-4E53-4297-BA65-4A208402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BBD53-CC33-4D5B-A5A1-3A14B5FA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161F-35AC-4899-8E74-A5DEC66C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215C-4447-42EC-9F56-5587D9EB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406F-5808-43C5-9188-1BAAF8B3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8097-5B60-4C79-BFA6-1585344A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9970-3217-46AF-B4CB-BB04771C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5D89-68C2-42DF-9F22-600F35A9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6E1A-DCBD-486F-9422-574510B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60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93800" indent="-38736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93760" indent="-398160">
              <a:spcBef>
                <a:spcPts val="601"/>
              </a:spcBef>
              <a:buClr>
                <a:srgbClr val="bc8b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BE5F-3EFD-4E9B-B2C0-F73318A04DC6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6201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248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EAE6-A4EA-4500-82E6-A6A98D8444B3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62012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909720" algn="ctr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3" marL="1306440" algn="ctr"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4" marL="1695600" algn="ctr">
              <a:spcBef>
                <a:spcPts val="561"/>
              </a:spcBef>
              <a:buClr>
                <a:srgbClr val="bc8b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Architecture for Tiered Sensor Networ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O. Gnawali, B. Greenstein, K-Y. Jang, A. Joki, J. Paek, M. Viera, D. Estrin, R. Govindan, E. Kohler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USC, UC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SenSys 2006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hree Task Operation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 new I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a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no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active containers associated with a task are destroye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51C1-A960-4886-A8A6-14E135B1AB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ample Tas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ink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ntToLedsAnd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ing and MeasureHea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seTo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048120"/>
            <a:ext cx="598176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82584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802944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3520" y="5562720"/>
            <a:ext cx="741996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CEA9-6C05-40A1-92A0-A154CF64B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Data Fusion Exampl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ke 10 samples, timestamp 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assify as interesting if 3 or more samples &gt; 45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lculates the deviation from the running mea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s the sample on the LED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ds the statistic, timestamp, and sample if interes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68007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EAB7-3C51-4848-9577-13EBC3E3FA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Network Subsystem Requirem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ust support different applications on tiered networ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outing must be robust and scalab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ster-to-mo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o-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Small memory footpri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s must be reliably disseminated from any master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sults must be delivered with end-to-end reli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8999-1404-4565-AD1D-05FAD0010A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ddressing and Routin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very mote and master has a globally unique 16-bit addr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tes use TinyOS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sters use last 16-bits of IP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ster-to-master: IP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te-to-master: tiered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First route to nearest master, then to destination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Use standard WSN tree-routing protocol like MintRou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1B39-869A-4B13-8DBE-81FACA5F0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iered Task Dissemin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iably floods tasks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artial network re-tasking achieved using a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predicate taskle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lemented in a generic packet flooding protocol called TR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y floods packets to all nodes (both motes and maste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ed on beacon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656F-BB6E-4696-9BC7-56C18B8CB3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eliable Transpor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ansmits responses from motes to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e transactiona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am transport for high data rate appl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ll use hop-by-hop retransmission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reliable protocols use a simplified version of TC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2806-0EB1-4112-B9BE-43343EA278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Summary of Novel Networking Mech.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6304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A56F-4D1B-411E-8697-3F37F7986F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valution: Concurrenc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ow many tasks can a tmote support at once?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0488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753000"/>
            <a:ext cx="653436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8960" y="2217600"/>
            <a:ext cx="874872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851E-9CF0-4E9E-890F-FE60810505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7340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ecution 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4191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st CPU-intensive tasklet,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GatherStatistic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can process 1200 samples in 14.8m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PU-bound max sampling rate is 81,000 samples per seco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464D-D1D3-4AD2-8FD4-841034A65D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Two-Tier Archite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4723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tes and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ulti-node data fusion done on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sters program motes using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884B-76C6-493A-BBA2-9FAFF69E2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pplication: PE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G = Pursuit-Evasion Gam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ne or more pursuers collaborate to corral one or more evad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se WSN to help pursuers detect non-line-of-sight evad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tive implementation uses a lead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ple nodes sense the evader, leader fuses the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ss tests Tenet (no mote-level fus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implementation adjusts the detection threshol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3831-8D89-4CFE-BE79-13893D5F56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xperimental Setup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56 tmotes, 6 stargat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mplif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ader detected using RSSI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Radio 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ansmit power limited to achieve multihop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-hop diamet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evader, one stationary pursuer on central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2579-CCC0-4A0F-8440-E15B485469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124080" cy="122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valu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higher accuracy but higher la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lower message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257280" cy="248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312444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7C6C-0225-4496-A114-49CA2B306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Vibration Monitoring Case Stud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used to implement Wisde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3909960" cy="29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3200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ctOnSet reduces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et simplifies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2B2B-20CF-4CF1-9C77-2145EB75CA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Manageabilit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following task can be used to capture the routing tree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s can be used to evaluate the task dissemination latency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2629080"/>
            <a:ext cx="6305400" cy="26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76520" y="3828960"/>
            <a:ext cx="53625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68295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4023-60B8-40B2-8CB5-6EEEC58135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obustnes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ailure of a master forces routing algorithm to adjus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86400" cy="334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1243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D7F9-8786-4470-ABA2-A2BF40B608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Future Wor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ctu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ier storag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unded-latency communic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mpact of disconnection due to mo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-user control and resource manag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D073-79CC-4766-B1C5-6301193A18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implifies programming while not significantly increasing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51BF-027F-4966-AA23-BA548076FF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Applic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Pursuit-Eva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Pursuer mobile robots chase after evader robots with the help of a sensor network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raditional implementation employs mote-tier data aggregation to reduce redundant evader repor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B213-AE28-41AA-AAC0-BFEBFA21B6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Compon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omposable taskle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eliable task dissemination protoco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Data transport mechanism (3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Inter-tier routing subsyst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E6E8-8206-4123-B993-CF9FA829A89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xample Tas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Notify application when temperature &gt; 50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contains an arbitrary number of tasklets linked together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24544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0E35-5AA5-4B2A-B9D7-27E0656E44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Motiv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st sensor network architectures support multi-node in-network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Increased complex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duced managea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966F-E37F-40F1-A5C8-166FEDF8344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Desig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enet limits multi-node data fusion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an perform more sophisticated fusion algorithm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Larger contex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 better decis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D7A4-0A32-4803-AC73-20E772593768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fficiency Cos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Opportunity cost of multi-mote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otes can still fuse locally-generated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Sensor data have high temporal but low spatial redundan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re data routed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 well-designed WSN will have a small diame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Higher conges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pplication parameters can be tuned, e.g., only high-confidence pursuers report to mast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52F1-75B7-4243-8FD4-E71B198316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Five Design Principle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symmetric Task Commun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 send mote tasks, mote send master reply, mote cannot initiate tasks (no inter-mote communicat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ddress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s can talk to each other, any master can talk to any mote, a mote can reply to its tasking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Each task is a subset of a mote’s generic functiona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silience to extensive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ools must offer useful insight into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FDBC-0BB9-4CFA-A717-39CDF0A4EE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Task and Task Librar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Focus on simplicity rather than expressive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is composed of tasklets, which are parameterized servic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Linear compos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lets maximize flexibility while remaining sim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Each task has a unique ID, a list of tasklets, and their parame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 composed at compile-time due to TinyO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EB07-E733-41A4-B11C-CDECE84041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askle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n be composed into a wide range of 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8632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031D-B7F0-4DB7-8E01-10437E7B6A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ask Data Stru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 are dynamically allocat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ctive Containers hold task dat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loned when a tasklet repea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2900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43000" y="5562720"/>
            <a:ext cx="68785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43400" y="18288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ttributes are 3-tu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tag, length, 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0DDE-8ED5-4ADA-9363-B449F64B3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</a:t>
            </a: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he Mote Run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-aware queues used by services (e.g., wait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cheduler operates at tasklet-level granul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ows multiple tasks to execute concurrent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8255-5FED-406C-AB5E-B2CAF21026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50:13Z</dcterms:created>
  <dc:creator>julien</dc:creator>
  <dc:description/>
  <dc:language>en-US</dc:language>
  <cp:lastModifiedBy>Sun Fei</cp:lastModifiedBy>
  <dcterms:modified xsi:type="dcterms:W3CDTF">2006-09-22T18:36:16Z</dcterms:modified>
  <cp:revision>645</cp:revision>
  <dc:subject/>
  <dc:title>Slide 1</dc:title>
</cp:coreProperties>
</file>